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SHREG.WAV" ContentType="audio/x-wav"/>
  <Override PartName="/ppt/media/TYPE.WAV" ContentType="audio/x-wav"/>
  <Override PartName="/ppt/media/WHOOSH.WAV" ContentType="audio/x-wav"/>
  <Override PartName="/ppt/media/LASER.WAV" ContentType="audio/x-wav"/>
  <Override PartName="/ppt/media/CAMERA.WAV" ContentType="audio/x-wav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A8D8-04DE-49BF-9380-5B4C92E669BD}" type="slidenum">
              <a:rPr b="0" lang="en-US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PHERICAL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SPHERICAL MIRROR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5.Aperture of the mirror :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portion of the hollow spherical surface from which the mirror reflections take place is called the aperture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 2, the distance MM’ is the aperture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5.Aperture of the mirror :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portion of the hollow spherical surface from which the mirror reflections take place is called the aperture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 2, the distance MM’ is the aperture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6.Focal Length of a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6.Focal Length of a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Focal length of a concave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a concave mirror, the rays appear to converge at a point F. The distance PF is called the focal length and F is called the focal point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 is in front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Focal length of a concave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a concave mirror, the rays appear to converge at a point F. The distance PF is called the focal length and F is called the focal point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 is in front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Focal length of a concave mirror :-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case of convex mirrors, the parallel rays, on reflection, appear to diverge from a point F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is point again is called the focal point of the convex mirrors and the distance PF is called the focal length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, in this case is behind the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Focal length of a concave mirror :-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case of convex mirrors, the parallel rays, on reflection, appear to diverge from a point F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is point again is called the focal point of the convex mirrors and the distance PF is called the focal length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, in this case is behind the mirror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Real and Virtual image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 In a concave mirror, the focus is real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object and the image lie on the same side of the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mirrored surface. A real image is called so because it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an be caught on a screen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In a convex mirror, on the other hand, the object and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s image lie on the opposite sides of the mirrored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urface. The image therefore is a virtual image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cannot be captured on a screen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3. In a plane mirror, the image again is a virtual one, as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does not form on the same side as that of the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bject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Real and Virtual image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1. In a concave mirror, the focus is real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object and the image lie on the same side of the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mirrored surface. A real image is called so because it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an be caught on a screen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2. In a convex mirror, on the other hand, the object and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s image lie on the opposite sides of the mirrored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urface. The image therefore is a virtual image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cannot be captured on a screen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3. In a plane mirror, the image again is a virtual one, as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does not form on the same side as that of the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bject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at is a spherical mirror?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pherical mirrors are mirrors whose surfaces form a part of a hollow sphere, The spheres can be made of glass or any polished metal surface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ypes of spherical mirrors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 Convex Mirror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Concave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What is a spherical mirror?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Spherical mirrors are mirrors whose surfaces form a part of a hollow sphere, The spheres can be made of glass or any polished metal surface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Types of spherical mirrors :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1. Convex Mirror 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2. Concave Mirror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onvex  mirror :. If the mirror coating is in the inside of the spherical surface, then the mirror is called a convex mirror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oncave mirror :If the mirror coating is on the outside of the spherical surface, then the mirror is called a concav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onvex  mirror :. If the mirror coating is in the inside of the spherical surface, then the mirror is called a convex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oncave mirror :If the mirror coating is on the outside of the spherical surface, then the mirror is called a concav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1.Center of curvature : The center of curvature of the mirror is defined as the center of the hollow sphere from which the mirror has been cut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C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can be observed that C of a convex mirror is behind    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mirrored surface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n the other hand, C for a concave mirror is in front 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Center of curvature : The center of curvature of the mirror is defined as the center of the hollow sphere from which the mirror has been cut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C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can be observed that C of a convex mirror is behind    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mirrored surface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n the other hand, C for a concave mirror is in front 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2. Radius of curvature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Radius of curvature is the radius of the sphere from which the mirrors (either convex or concave) is made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, the distance CP is the radius of curvatures of the two mirrors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Radius of curvature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                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Radius of curvature is the radius of the sphere from which the mirrors (either convex or concave) is made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, the distance CP is the radius of curvatures of the two mirrors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3.Pole of the mirror : The central point on the surface of the mirrors is called the pole of the mirror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P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pole of the mirror can be found by drawing a straight line from the center C to the largest distance on the surface from C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Where the line cuts the mirror, you will find the pole P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3.Pole of the mirror : The central point on the surface of the mirrors is called the pole of the mirror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P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pole of the mirror can be found by drawing a straight line from the center C to the largest distance on the surface from C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ere the line cuts the mirror, you will find the pole P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4.Principal axis of the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straight line that passes through the center of curvature C and the pole P of the mirror, is called the principal axis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 line XY is the principal axis of the mirrors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principal axis of a spherical mirror, functions similar to the normal of the plan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ray of light passing along the principal axis will be reflected back along the same path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4.Principal axis of the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straight line that passes through the center of curvature C and the pole P of the mirror, is called the principal axis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 line XY is the principal axis of the mirrors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principal axis of a spherical mirror, functions similar to the normal of the plan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ray of light passing along the principal axis will be reflected back along the same path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495D-FDAB-4E36-8DF6-A07D9000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B569-59C5-473F-866D-CB265A88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992F-D855-40C2-AAB5-BB501324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59B0-D062-4CB8-92AF-DB51CFCB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2BB0-7DC1-45C4-B5E2-A071815A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166A-7246-4A44-89E6-8C816900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74B2-4FEB-46BA-9AA5-A5DE58D4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F54C-02D3-4295-8E81-398A19F0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748F-4E69-48DD-90FA-52AF39BC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8817-7DCA-4407-B419-CB1666FF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840B-2A49-4E24-BA5E-8A9B6613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8247-345F-4BBE-9678-D8DA4CAA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DEE1-0647-4BC4-8D09-64644805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4B3C-5E5B-45FD-A203-18884102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2D22-0213-4E7E-92C9-F04259DB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36D6-8EFA-41CD-8CBF-FC3EFF6C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4FCF-B2A2-44C0-A19E-81FF71A0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F1AF-9DCD-4A36-A575-DF1C50FC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AA6E-57FC-40E8-8E6E-0D5AF74D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5607-BA16-4D59-9400-3A9A71B9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60DB-0074-4CD8-BC41-0DC8A7F9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0659-C5A9-4BF7-9100-253D6543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B314-BC92-44BB-A73D-5D63EB24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A007-786E-430B-A9F5-0C784B4E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8AF5-73C0-45DA-9A52-D89194473C88}" type="slidenum">
              <a:rPr b="0" lang="en-US" sz="1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cc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8AD6-F88E-4A91-B877-C0ABBB69012D}" type="slidenum">
              <a:rPr b="0" lang="en-US" sz="1600" spc="-1" strike="noStrike">
                <a:solidFill>
                  <a:srgbClr val="ffffcc"/>
                </a:solidFill>
                <a:latin typeface="Angsan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43000" y="457200"/>
            <a:ext cx="6858000" cy="2104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6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1" lang="th-TH" sz="6600" spc="-1" strike="noStrike">
                <a:solidFill>
                  <a:srgbClr val="ffffcc"/>
                </a:solidFill>
                <a:latin typeface="Angsana New"/>
              </a:rPr>
              <a:t>SPHERICAL MIRRORS</a:t>
            </a:r>
            <a:endParaRPr b="0" lang="en-US" sz="66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934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solidFill>
            <a:srgbClr val="ccff33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cc"/>
                </a:solidFill>
                <a:latin typeface="Angsana New"/>
              </a:rPr>
              <a:t>Some definitions of convex and concave mirrors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04920" y="1752480"/>
            <a:ext cx="8381880" cy="4338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800000"/>
                </a:solidFill>
                <a:uFillTx/>
                <a:latin typeface="Arial"/>
                <a:ea typeface="Cordia New"/>
              </a:rPr>
              <a:t>5.Aperture of the mirror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: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The portion of the hollow spherical surface from which the mirror reflections take place is called the aperture 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In the figure 2, the distance MM’ is the aperture of the mirror.</a:t>
            </a:r>
            <a:r>
              <a:rPr b="1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28600" y="228600"/>
            <a:ext cx="8686800" cy="1556280"/>
          </a:xfrm>
          <a:prstGeom prst="rect">
            <a:avLst/>
          </a:prstGeom>
          <a:noFill/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800000"/>
                </a:solidFill>
                <a:latin typeface="Angsana New"/>
              </a:rPr>
              <a:t>Some definitions of convex 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244520"/>
            <a:ext cx="861048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800000"/>
                </a:solidFill>
                <a:latin typeface="Arial"/>
                <a:ea typeface="Cordia New"/>
              </a:rPr>
              <a:t>6.Focal Length of a mirror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 u="sng">
                <a:solidFill>
                  <a:srgbClr val="000000"/>
                </a:solidFill>
                <a:uFillTx/>
                <a:latin typeface="Angsana New"/>
              </a:rPr>
              <a:t>Focal length of a concave mirror</a:t>
            </a:r>
            <a:r>
              <a:rPr b="1" lang="th-TH" sz="4000" spc="-1" strike="noStrike" u="sng">
                <a:solidFill>
                  <a:srgbClr val="000000"/>
                </a:solidFill>
                <a:uFillTx/>
                <a:latin typeface="Angsana New"/>
              </a:rPr>
              <a:t> :</a:t>
            </a:r>
            <a:endParaRPr b="0" lang="en-US" sz="40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0" y="4267080"/>
            <a:ext cx="914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n a concave mirror, the rays appear to converge at a point F. The distance PF is called the focal length and F is called the focal point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e focus is in front of the mirror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1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000000"/>
                </a:solidFill>
                <a:uFillTx/>
                <a:latin typeface="Angsana New"/>
              </a:rPr>
              <a:t>Focal length of a concave mirror :-</a:t>
            </a:r>
            <a:endParaRPr b="0" lang="en-US" sz="40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8001000" cy="31244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0" y="373392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n case of convex mirrors, the parallel rays, on reflection, appear to diverge from a point F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is point again is called the focal point of the convex mirrors and the distance PF is called the focal length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e focus, in this case is behind the mirror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1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295280" y="0"/>
            <a:ext cx="6400800" cy="1739880"/>
          </a:xfrm>
          <a:prstGeom prst="rect">
            <a:avLst/>
          </a:prstGeom>
          <a:noFill/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Real and Virtual images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28600" y="990720"/>
            <a:ext cx="89154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1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n a concave mirror, the focus is real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The object and the image lie on the same side of the 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mirrored surface. A real image is called so because it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can be caught on a screen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2. In a convex mirror, on the other hand, the object and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s image lie on the opposite sides of the mirrored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surface. The image therefore is a virtual image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 cannot be captured on a screen.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3. In a plane mirror, the image again is a virtual one, as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 does not form on the same side as that of the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object.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8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762120" y="22860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What is a </a:t>
            </a:r>
            <a:r>
              <a:rPr b="1" lang="th-TH" sz="5400" spc="-1" strike="noStrike">
                <a:solidFill>
                  <a:srgbClr val="ffffcc"/>
                </a:solidFill>
                <a:latin typeface="Angsana New"/>
              </a:rPr>
              <a:t>spherical</a:t>
            </a: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 mirror?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38080" y="1295280"/>
            <a:ext cx="7391520" cy="1800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Spherical mirrors are mirrors whose surfaces form a part of a hollow sphere, The spheres can be made of glass or any polished metal surfaces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838080" y="342900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Types of spherical mirrors :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304920" y="4267080"/>
            <a:ext cx="8534160" cy="239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cc"/>
                </a:solidFill>
                <a:latin typeface="Angsana New"/>
              </a:rPr>
              <a:t>1. Convex Mirror   </a:t>
            </a:r>
            <a:endParaRPr b="0" lang="en-US" sz="6000" spc="-1" strike="noStrike">
              <a:solidFill>
                <a:srgbClr val="ffffcc"/>
              </a:solidFill>
              <a:latin typeface="Angsana New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cc"/>
                </a:solidFill>
                <a:latin typeface="Angsana New"/>
              </a:rPr>
              <a:t>2. Concave Mirror</a:t>
            </a:r>
            <a:endParaRPr b="0" lang="en-US" sz="60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609480" y="838080"/>
            <a:ext cx="81536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6000" spc="-1" strike="noStrike" u="sng">
                <a:solidFill>
                  <a:srgbClr val="800000"/>
                </a:solidFill>
                <a:uFillTx/>
                <a:latin typeface="Angsana New"/>
              </a:rPr>
              <a:t>Convex  mirror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: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.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f the mirror coating is in the inside of the spherical surface, then the mirror is called a convex mirror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33520" y="3429000"/>
            <a:ext cx="79246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6000" spc="-1" strike="noStrike" u="sng">
                <a:solidFill>
                  <a:srgbClr val="800000"/>
                </a:solidFill>
                <a:uFillTx/>
                <a:latin typeface="Angsana New"/>
              </a:rPr>
              <a:t>Concave mirror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: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f the mirror coating is on the outside of the spherical surface, then the mirror is called a concave mirror.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04920" y="304920"/>
            <a:ext cx="853416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cc00cc"/>
                </a:solidFill>
                <a:latin typeface="Angsana New"/>
              </a:rPr>
              <a:t>Some definitions of convex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" y="1600200"/>
            <a:ext cx="86868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ff"/>
                </a:solidFill>
                <a:latin typeface="Arial"/>
                <a:ea typeface="Cordia New"/>
              </a:rPr>
              <a:t>1.</a:t>
            </a:r>
            <a:r>
              <a:rPr b="1" lang="th-TH" sz="3600" spc="-1" strike="noStrike" u="sng">
                <a:solidFill>
                  <a:srgbClr val="3333ff"/>
                </a:solidFill>
                <a:uFillTx/>
                <a:latin typeface="Arial"/>
                <a:ea typeface="Cordia New"/>
              </a:rPr>
              <a:t>Center of curvature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: The center of curvature of the mirror is defined as the center of the hollow sphere from which the mirror has been cut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C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can be observed that C of a convex mirror is behind      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the mirrored surface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On the other hand, C for a concave mirror is in front   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380880" y="380880"/>
            <a:ext cx="853452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57200" y="1523880"/>
            <a:ext cx="8305920" cy="51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 u="sng">
                <a:solidFill>
                  <a:srgbClr val="3333ff"/>
                </a:solidFill>
                <a:uFillTx/>
                <a:latin typeface="Angsana New"/>
              </a:rPr>
              <a:t>2. Radius of curvature</a:t>
            </a:r>
            <a:r>
              <a:rPr b="0" lang="th-TH" sz="2800" spc="-1" strike="noStrike">
                <a:solidFill>
                  <a:srgbClr val="3333ff"/>
                </a:solidFill>
                <a:latin typeface="Angsan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                                          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Radius of curvature is the radius of the sphere from which the mirrors (either convex or concave) is made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n the figure, the distance CP is the radius of curvatures of the two mirrors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80880" y="1676520"/>
            <a:ext cx="838224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 u="sng">
                <a:solidFill>
                  <a:srgbClr val="3333ff"/>
                </a:solidFill>
                <a:uFillTx/>
                <a:latin typeface="Arial"/>
                <a:ea typeface="Cordia New"/>
              </a:rPr>
              <a:t>3.Pole of the mirror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: The central point on the surface of the mirrors is called the pole of the mirror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P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A pole of the mirror can be found by drawing a straight line from the center C to the largest distance on the surface from C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Where the line cuts the mirror, you will find the pole P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80880" y="304920"/>
            <a:ext cx="8534520" cy="143460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3333ff"/>
                </a:solidFill>
                <a:latin typeface="Angsana New"/>
              </a:rPr>
              <a:t>Some definitions of convex and concave mirrors</a:t>
            </a:r>
            <a:endParaRPr b="0" lang="en-US" sz="4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04920" y="1244520"/>
            <a:ext cx="853416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003300"/>
                </a:solidFill>
                <a:uFillTx/>
                <a:latin typeface="Arial"/>
                <a:ea typeface="Cordia New"/>
              </a:rPr>
              <a:t>4.Principal axis of the mirror</a:t>
            </a: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A straight line that passes through the center of curvature C and the pole P of the mirror, is called the principal axis 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In the figure line XY is the principal axis of the mirrors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The principal axis of a spherical mirror, functions similar to the normal of the plan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A ray of light passing along the principal axis will be reflected back along the same path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21:02:13Z</dcterms:created>
  <dc:creator>Customer</dc:creator>
  <dc:description/>
  <dc:language>en-US</dc:language>
  <cp:lastModifiedBy>RomaK</cp:lastModifiedBy>
  <dcterms:modified xsi:type="dcterms:W3CDTF">2015-09-03T12:37:14Z</dcterms:modified>
  <cp:revision>19</cp:revision>
  <dc:subject/>
  <dc:title>No Slide Title</dc:title>
</cp:coreProperties>
</file>